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30A7-FBE8-4F7D-96A7-6CAD7031E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9715-204B-48A2-B6B4-4B4350E6B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838FB-D295-4D6D-98B6-695B5DA9AB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1457-80C6-4C2A-A544-6BB842AF18F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C6F5-DC6A-4147-9EDF-638280E68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44A5-9D55-4F18-8A0C-8DC67E10ED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7C78-4492-45C7-A0E1-445399A3DE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98F8-21FB-428E-8DE4-2922A6F127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9AF9-0F7C-480D-AA2E-8F7E3D48CF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DDF0C-A175-4578-AF6F-D531DADD69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94BE-9DFA-4841-9B87-BCB31A0793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8BC1-A33E-4E04-B491-DA9892AB56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CE73-7E62-4A02-861D-4201AA1C0F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BC7B3-3D3F-4373-B32A-5F94120D45A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83A1-37F6-4D47-8B26-47EE5EBE0D7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4560" y="1412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bati Distric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earch–for–Development (R4D) Platfo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8000" y="3068280"/>
            <a:ext cx="5158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Jukwaa la Utafiti kwa Maendeleo Wilaya ya Babati (JUMB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" y="41148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Review and Planning Meeting, Mangoch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ly 14-16,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r Hillb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Diagram 3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791400" cy="4930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780000" y="2568600"/>
            <a:ext cx="2062080" cy="2168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"/>
          <p:cNvPicPr/>
          <p:nvPr/>
        </p:nvPicPr>
        <p:blipFill>
          <a:blip r:embed="rId3"/>
          <a:stretch/>
        </p:blipFill>
        <p:spPr>
          <a:xfrm>
            <a:off x="4869000" y="299736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4"/>
          <a:stretch/>
        </p:blipFill>
        <p:spPr>
          <a:xfrm>
            <a:off x="5011560" y="335772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/>
          <p:cNvPicPr/>
          <p:nvPr/>
        </p:nvPicPr>
        <p:blipFill>
          <a:blip r:embed="rId5"/>
          <a:stretch/>
        </p:blipFill>
        <p:spPr>
          <a:xfrm>
            <a:off x="4216320" y="387360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"/>
          <p:cNvPicPr/>
          <p:nvPr/>
        </p:nvPicPr>
        <p:blipFill>
          <a:blip r:embed="rId6"/>
          <a:stretch/>
        </p:blipFill>
        <p:spPr>
          <a:xfrm>
            <a:off x="4437000" y="391176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"/>
          <p:cNvPicPr/>
          <p:nvPr/>
        </p:nvPicPr>
        <p:blipFill>
          <a:blip r:embed="rId7"/>
          <a:stretch/>
        </p:blipFill>
        <p:spPr>
          <a:xfrm>
            <a:off x="4356000" y="4130640"/>
            <a:ext cx="182520" cy="18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"/>
          <p:cNvPicPr/>
          <p:nvPr/>
        </p:nvPicPr>
        <p:blipFill>
          <a:blip r:embed="rId8"/>
          <a:stretch/>
        </p:blipFill>
        <p:spPr>
          <a:xfrm>
            <a:off x="5364000" y="4086360"/>
            <a:ext cx="182880" cy="1839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324000" y="1773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nov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Diagram 3" descr=""/>
          <p:cNvPicPr/>
          <p:nvPr/>
        </p:nvPicPr>
        <p:blipFill>
          <a:blip r:embed="rId1"/>
          <a:stretch/>
        </p:blipFill>
        <p:spPr>
          <a:xfrm>
            <a:off x="1474920" y="1487520"/>
            <a:ext cx="6913440" cy="48211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250920" y="184464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nabling system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Annual General Meeting, Oct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constitution, leadership, research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anagement retreat, Jan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Work plan 2015-16, communication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Progress in 2014-20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RELIABLE MARKET FOR AGRICULTURAL PRODUCTS FROM BAB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ENABLING ENVIRONMENT FOR EFFICIENT PRODUCTION OF AGRICULTURAL PRODUCTS (LIVESTOCK AND CROP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ACITY BUILDING OF JUM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ING  PLATFORM  CAPAC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RACT YOUTH TO FARMING AS A BUSINESS THROUGH PROVISION OF FEASIBLE INCEN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trainers in farming as a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ext + farmers in PHM (sca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formation on farmer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value addition in 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Develop market strategies for prize stab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proper land use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Activities (examp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044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of ext on GAP (sca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apacity building on QDS maize production (3 wa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ensitization on artificial insemination (6 wa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Grassroot level platforms in 6 w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mmunication and promotion of JUMBA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Annual meetings for evaluation, reflection and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for 20 youth in chicken and vegetable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links between youth and credit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Activities (con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Degree of formalization (bureaucrac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trategic in character – not yet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ion and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Buy-in from NGOs and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nnect to existing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Go to ward/villag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ind balance with research coordination/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Monitoring and  evaluation of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Reflection and challeng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Per Hillbur</cp:lastModifiedBy>
  <cp:lastPrinted>2011-10-06T11:45:23Z</cp:lastPrinted>
  <dcterms:modified xsi:type="dcterms:W3CDTF">2015-07-14T05:38:04Z</dcterms:modified>
  <cp:revision>37</cp:revision>
  <dc:subject/>
  <dc:title>Slide 1</dc:title>
</cp:coreProperties>
</file>